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1CE-B784-40C8-A20D-E342D102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27A-9D8C-4C39-B4A3-CE127CCC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FDF-56BE-4525-9500-286B82AA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FD4-E0A1-4A2C-8679-30B8FACD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8ADF-BDA6-42C4-B803-8A5B388E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DBAE-03C7-451A-B231-92CA0A20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3AE5-D2EE-42D6-BF17-1357BD15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421F-5B65-44DE-8F22-1A33C96A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5676-21E3-4497-934C-1763304A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6493-8BB8-44F9-8A3E-9B1E0690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84BB-C2CA-4FF6-BE92-9D284AA8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D05-BAB6-4922-8C6D-B746E00B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D383-B447-49CF-B1C0-9EA1D940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7AF4-7D67-4096-8E92-43EACDC1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4888-2E99-4888-A6BC-BD659889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B5D1-FC6F-43E9-AAD6-9BFC1897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7765-351E-4145-8BB0-473B5D7F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787-B374-41FD-85D2-593D2785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443-078C-4C67-BE71-6B502C95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2E2-B6C4-4764-B58D-50EEC94C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1D2-779C-4026-9D07-121FE44D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38D-3D2A-4241-99CF-BC44F42D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839-A77D-4601-8936-402D3B26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98C-11FA-4BF6-8FFD-F2602551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F0DF-CBC2-49F3-B6FE-39B6133467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0129-C816-49CD-8DB3-D2C73CB559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ritannic Bold"/>
              </a:rPr>
              <a:t>Peedie the Puffin goes to Fij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arning Cent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va, Fi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ne 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naka vakalevu Papay Westra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Thank you for sending Peedie our way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ill miss him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edie arrives at TLC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BULA! NAMASTE!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502884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is now in the south Pacific, where the palm trees grow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3682800" cy="2762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800600" y="1905120"/>
            <a:ext cx="3606840" cy="2705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edie eats Fijian food (Dalo and pork) and Indian curry with Naan! Y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rot="5400000">
            <a:off x="66240" y="2752200"/>
            <a:ext cx="4343400" cy="325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2514600"/>
            <a:ext cx="3911760" cy="293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edie makes a new friend..and thinks about getting a traditional tattoo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18840" y="2657160"/>
            <a:ext cx="4190760" cy="31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4733640" y="2657160"/>
            <a:ext cx="4190760" cy="31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edie gets to sit on a traditional Fijian mat, he is a popular puffin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 rot="5400000">
            <a:off x="609480" y="2742840"/>
            <a:ext cx="3657600" cy="2743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191120" y="2514600"/>
            <a:ext cx="4419360" cy="3314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edie’s last escapades before he leaves for Hong Kong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143160" cy="4191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rot="5400000">
            <a:off x="609480" y="2438280"/>
            <a:ext cx="4267080" cy="3200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graders send Peedie off with memories of Fiji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6096240" cy="457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Graders send Peedie off with more memories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6248520" cy="4686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plies for the long journe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4267080" cy="3003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6019560"/>
            <a:ext cx="7238880" cy="75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52880" y="3352680"/>
            <a:ext cx="3911760" cy="3009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p:transition advTm="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1:15:08Z</dcterms:created>
  <dc:creator>Nina Ferry</dc:creator>
  <dc:description/>
  <dc:language>en-US</dc:language>
  <cp:lastModifiedBy>Nina Ferry</cp:lastModifiedBy>
  <dcterms:modified xsi:type="dcterms:W3CDTF">2009-06-06T11:48:48Z</dcterms:modified>
  <cp:revision>1</cp:revision>
  <dc:subject/>
  <dc:title>Peedie the Puffin goes to Fiji</dc:title>
</cp:coreProperties>
</file>